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9.wmf" ContentType="image/x-wmf"/>
  <Override PartName="/ppt/media/image14.png" ContentType="image/png"/>
  <Override PartName="/ppt/media/image26.png" ContentType="image/png"/>
  <Override PartName="/ppt/media/image11.wmf" ContentType="image/x-wmf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1.wmf" ContentType="image/x-wmf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E22E-7FAF-429F-8A52-132328FEB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F9FE-60B2-4F24-9773-78FCC7EDE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4618-209D-40D5-8E54-33B787BBD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00D7-60C8-4C03-9344-229C4E9FA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1608-9DA0-46C0-82CB-CCC21574A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DC0F-0650-4EE2-B25B-84A177F28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7E34-E1DF-479B-97D5-8A6679017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C8B1-1EA9-43F5-AFB5-D798924CC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4B0F-522C-43FF-B529-F7C20B0D9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7B81-D038-462D-9ED9-AE1816537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7D70-9D87-4F9C-BBF6-C6F5F5AD1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6E5A-D92D-4F66-B5A5-42C1B504C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3291-0F7D-4898-9B86-0E878444E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 rot="5400000">
            <a:off x="7052760" y="63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 rot="16200000">
            <a:off x="7053120" y="44424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va Multimedia: Images, Animation, Audio and Video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295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30.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30.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oading, Displaying and Scaling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3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oading and Playing Audio Cl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30.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nimating a Series of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30.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nimation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30.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ustomizing Applets via the HTML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Courier New"/>
              </a:rPr>
              <a:t>param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30.7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mage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30.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 and Playing Audio Clip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 c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speakers and a sound 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nd engine - plays audio cl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.a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.wa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.a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.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Media Framework supports additional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ing audio c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l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in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ys clip once, marked for garbage collection when fin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lay( location, soundFileNam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cation - getDocument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RL of HTML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lay( soundURL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oundUR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URL that contains location and filename of c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 and Playing Audio Clip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ing audio c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l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udioCli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flexible than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pp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o stored in program, can be re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getAudioC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reference to an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udioC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ormat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pp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AudioClip( location, filenam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AudioClip( soundURL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udioCli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aded, use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lays audio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ontinuous loops audio in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terminates clip that is currently pla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dAudioAndPlay.java (Part 1 of 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0"/>
          <a:ext cx="6919920" cy="632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9199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dAudioAndPlay.java (Part 2 of 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6848640" cy="641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64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dAudioAndPlay.java (Part 3 of 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0"/>
          <a:ext cx="68486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30_02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41911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ng a Series of Imag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series of images stored in an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ame techniques to load and display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I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i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ctionEv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t a fixed interval in millisec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imer ( animationDelay, ActionListener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ctionListener - ActionListe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will respond to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ction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ng a Series of Imag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p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call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aint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es o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JCompo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hould draw in method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aint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superclass'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sure Swing components displayed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dth and height specify entire window, not client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im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myDimObject = new Dimension( 100, 200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myDimObject.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ng a Series of Image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getImageLoad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I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if image is completely loaded into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complete images should be displayed (smooth ani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oaded, return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diaTracker.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diaTra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etermine when images are loaded, or force program to wait if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mageIc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eates our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MediaTrack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Animator.java (Part 1 of 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0"/>
          <a:ext cx="6848640" cy="59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59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hapter, you will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 how to get and display 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ble to create animations from sequences of images; to control animation speed and fl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ble to get, play, loop and stop s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ble to monitor the loading of images with 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diaTrac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o create image ma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ustomize applets with th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a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Animator.java (Part 2 of 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0"/>
          <a:ext cx="6848640" cy="641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64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Animator.java (Part 3 of 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0"/>
          <a:ext cx="68486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Animator.java (Part 4 of 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0"/>
          <a:ext cx="6848640" cy="498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30_03a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286000" cy="1455840"/>
          </a:xfrm>
          <a:prstGeom prst="rect">
            <a:avLst/>
          </a:prstGeom>
          <a:ln w="0">
            <a:noFill/>
          </a:ln>
        </p:spPr>
      </p:pic>
      <p:pic>
        <p:nvPicPr>
          <p:cNvPr id="141" name="30_03b" descr=""/>
          <p:cNvPicPr/>
          <p:nvPr/>
        </p:nvPicPr>
        <p:blipFill>
          <a:blip r:embed="rId2"/>
          <a:stretch/>
        </p:blipFill>
        <p:spPr>
          <a:xfrm>
            <a:off x="3352680" y="685800"/>
            <a:ext cx="2286000" cy="1455840"/>
          </a:xfrm>
          <a:prstGeom prst="rect">
            <a:avLst/>
          </a:prstGeom>
          <a:ln w="0">
            <a:noFill/>
          </a:ln>
        </p:spPr>
      </p:pic>
      <p:pic>
        <p:nvPicPr>
          <p:cNvPr id="142" name="30_03c" descr=""/>
          <p:cNvPicPr/>
          <p:nvPr/>
        </p:nvPicPr>
        <p:blipFill>
          <a:blip r:embed="rId3"/>
          <a:stretch/>
        </p:blipFill>
        <p:spPr>
          <a:xfrm>
            <a:off x="533520" y="2666880"/>
            <a:ext cx="2286000" cy="1455840"/>
          </a:xfrm>
          <a:prstGeom prst="rect">
            <a:avLst/>
          </a:prstGeom>
          <a:ln w="0">
            <a:noFill/>
          </a:ln>
        </p:spPr>
      </p:pic>
      <p:pic>
        <p:nvPicPr>
          <p:cNvPr id="143" name="30_03d" descr=""/>
          <p:cNvPicPr/>
          <p:nvPr/>
        </p:nvPicPr>
        <p:blipFill>
          <a:blip r:embed="rId4"/>
          <a:stretch/>
        </p:blipFill>
        <p:spPr>
          <a:xfrm>
            <a:off x="3352680" y="2666880"/>
            <a:ext cx="22860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on Issu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ng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laced/non-interlaced form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order in which pixels ar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interlaced - pixels stored in order they appear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appears in chunks from top to bottom as it is 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laced - pixels stored in rows, but out of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appears to fade in and become more 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tion fli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e to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ing called in response to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e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WT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filled rectangle in background color where image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image, sleep, clear background (flicker), draw next imag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'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Pan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verrid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void th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on Issu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b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smooth anim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renders one image on scr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s next image in off-scree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ime to display next image, done smooth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 images user would have seen (while image loads) are 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pixels for next image displayed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/Time trade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flicker, but can slow animation speed and uses mor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Swing GUI components by 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izing Applets via the HTML </a:t>
            </a: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Courier New"/>
              </a:rPr>
              <a:t>param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Tag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 through parameters in HTML file that invok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&lt;html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&lt;applet code="LogoApplet.class" width=400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height=400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&lt;param name="totalimages" value="30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&lt;param name="imagename" value="deitel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&lt;param name="animationdelay" value="200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&lt;/applet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&lt;/html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s applet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ogo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a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has a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pplet method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turns a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arameter = getParameter( "animationdelay"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izing Applets via the HTML </a:t>
            </a:r>
            <a:r>
              <a:rPr b="0" lang="en-US" sz="2600" spc="-1" strike="noStrike">
                <a:solidFill>
                  <a:srgbClr val="ff0000"/>
                </a:solidFill>
                <a:latin typeface="Lucida Console"/>
                <a:ea typeface="Courier New"/>
              </a:rPr>
              <a:t>param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Tag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ogoAnim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as before, but modified sligh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pplet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ogo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goAnim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using th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s an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Animator.java (Part 1 of 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0"/>
          <a:ext cx="6848640" cy="66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66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Animator.java (Part 2 of 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0"/>
          <a:ext cx="6848640" cy="546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1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lution in computer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fore, computers used for high-speed calc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data manipulation impor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"sizzle" of Java - images, sound, vid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Ds, DVDs, video c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ands extraordinary computing p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 processors making multimedia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built-in multimedia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rogramming languages do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powerful multimedia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Animator.java (Part 3 of 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0"/>
          <a:ext cx="691992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9199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Animator.java (Part 4 of 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0"/>
          <a:ext cx="6848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Animator.java (Part 5 of 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Applet.java (Part 1 of 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0"/>
          <a:ext cx="691992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9199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0" y="3276720"/>
          <a:ext cx="6919920" cy="297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691992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Applet.java (Part 2 of 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0"/>
          <a:ext cx="6848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Applet.java (Part 3 of 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30_04a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1828800" cy="1622160"/>
          </a:xfrm>
          <a:prstGeom prst="rect">
            <a:avLst/>
          </a:prstGeom>
          <a:ln w="0">
            <a:noFill/>
          </a:ln>
        </p:spPr>
      </p:pic>
      <p:pic>
        <p:nvPicPr>
          <p:cNvPr id="174" name="30_04b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1828800" cy="1622160"/>
          </a:xfrm>
          <a:prstGeom prst="rect">
            <a:avLst/>
          </a:prstGeom>
          <a:ln w="0">
            <a:noFill/>
          </a:ln>
        </p:spPr>
      </p:pic>
      <p:pic>
        <p:nvPicPr>
          <p:cNvPr id="175" name="30_04c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1828800" cy="1622520"/>
          </a:xfrm>
          <a:prstGeom prst="rect">
            <a:avLst/>
          </a:prstGeom>
          <a:ln w="0">
            <a:noFill/>
          </a:ln>
        </p:spPr>
      </p:pic>
      <p:pic>
        <p:nvPicPr>
          <p:cNvPr id="176" name="30_04d" descr=""/>
          <p:cNvPicPr/>
          <p:nvPr/>
        </p:nvPicPr>
        <p:blipFill>
          <a:blip r:embed="rId4"/>
          <a:stretch/>
        </p:blipFill>
        <p:spPr>
          <a:xfrm>
            <a:off x="3657600" y="4724280"/>
            <a:ext cx="1828800" cy="162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0"/>
          <a:ext cx="6848640" cy="2846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684864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age Map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ge that has hot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an click to accomplish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bble hel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mouse over particular point in screen, small message displayed in status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several 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vent handler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ouseMov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find x-coord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the x-coordinate, display a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Map.java (Part 1 of 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0"/>
          <a:ext cx="69199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919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Map.java (Part 2 of 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6929280" cy="62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929280" cy="62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Map.java (Part 3 of 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0"/>
          <a:ext cx="691992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9199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30_05a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219480" cy="1228680"/>
          </a:xfrm>
          <a:prstGeom prst="rect">
            <a:avLst/>
          </a:prstGeom>
          <a:ln w="0">
            <a:noFill/>
          </a:ln>
        </p:spPr>
      </p:pic>
      <p:pic>
        <p:nvPicPr>
          <p:cNvPr id="192" name="30_05b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3219480" cy="1228680"/>
          </a:xfrm>
          <a:prstGeom prst="rect">
            <a:avLst/>
          </a:prstGeom>
          <a:ln w="0">
            <a:noFill/>
          </a:ln>
        </p:spPr>
      </p:pic>
      <p:pic>
        <p:nvPicPr>
          <p:cNvPr id="193" name="30_05c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3219480" cy="1228680"/>
          </a:xfrm>
          <a:prstGeom prst="rect">
            <a:avLst/>
          </a:prstGeom>
          <a:ln w="0">
            <a:noFill/>
          </a:ln>
        </p:spPr>
      </p:pic>
      <p:pic>
        <p:nvPicPr>
          <p:cNvPr id="194" name="30_05d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3219480" cy="1228680"/>
          </a:xfrm>
          <a:prstGeom prst="rect">
            <a:avLst/>
          </a:prstGeom>
          <a:ln w="0">
            <a:noFill/>
          </a:ln>
        </p:spPr>
      </p:pic>
      <p:pic>
        <p:nvPicPr>
          <p:cNvPr id="195" name="30_05e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3219480" cy="1228680"/>
          </a:xfrm>
          <a:prstGeom prst="rect">
            <a:avLst/>
          </a:prstGeom>
          <a:ln w="0">
            <a:noFill/>
          </a:ln>
        </p:spPr>
      </p:pic>
      <p:pic>
        <p:nvPicPr>
          <p:cNvPr id="196" name="30_05f" descr=""/>
          <p:cNvPicPr/>
          <p:nvPr/>
        </p:nvPicPr>
        <p:blipFill>
          <a:blip r:embed="rId6"/>
          <a:stretch/>
        </p:blipFill>
        <p:spPr>
          <a:xfrm>
            <a:off x="4267080" y="3276720"/>
            <a:ext cx="3219480" cy="1228680"/>
          </a:xfrm>
          <a:prstGeom prst="rect">
            <a:avLst/>
          </a:prstGeom>
          <a:ln w="0">
            <a:noFill/>
          </a:ln>
        </p:spPr>
      </p:pic>
      <p:pic>
        <p:nvPicPr>
          <p:cNvPr id="197" name="30_05g" descr=""/>
          <p:cNvPicPr/>
          <p:nvPr/>
        </p:nvPicPr>
        <p:blipFill>
          <a:blip r:embed="rId7"/>
          <a:stretch/>
        </p:blipFill>
        <p:spPr>
          <a:xfrm>
            <a:off x="4267080" y="4800600"/>
            <a:ext cx="32194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, Displaying and Scaling Imag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ics, images, animations, sounds, and vid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java.aw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, cannot create an object direc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quest that an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loaded and returned to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pp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uperclass of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App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has this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Image( imageLocation, filenam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mageLocation - getDocumentBase() - UR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ddress) of HTM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Java support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.g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.jp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.jp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and web resources for multimedia related s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http://www.nasa.gov/gallery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 multimedia gall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http://sunsite.sut.ac.jp/multime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site Japan Multimedia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ttp://www.anbg.gov.au/anbg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ralian National Botanic Gard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b site provides links to sounds of many anim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, Displaying and Scaling Imag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ing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m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drawIm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overloaded ver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.drawImage( myImage, x, y, ImageObserver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myImage - 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x,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ordinates to display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mage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object on which image is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"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indicate the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 object that implement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mage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.drawImage( myImage, x, y, width, height,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mageObserver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dimensions of image (automatically sca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Width(), getHeigh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turn dimensions of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, Displaying and Scaling Image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mageIc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n abstract class (can create objec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vate ImageIcon myIc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myIcon = new ImageIcon( "myIcon.gif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ing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c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metho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paintIc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myIcon.paintIcon( Component, Graphics, x, 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mponent - Compo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on which to display image (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phics - Graph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used to render image (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oordinates o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, Displaying and Scaling Images (IV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Ic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simpler than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objects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mage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annot scal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I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Ic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get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an be used with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raw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e sca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dImage-AndScale.java (Part 1 of 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684864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864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009920" y="761760"/>
            <a:ext cx="2133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dImage-AndScale.java (Part 2 of 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30_01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3314880" cy="389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0" y="0"/>
          <a:ext cx="6848640" cy="237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684864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5:23:17Z</dcterms:created>
  <dc:creator>kalid</dc:creator>
  <dc:description/>
  <dc:language>en-US</dc:language>
  <cp:lastModifiedBy>Pearson Education</cp:lastModifiedBy>
  <dcterms:modified xsi:type="dcterms:W3CDTF">2003-08-13T13:46:38Z</dcterms:modified>
  <cp:revision>204</cp:revision>
  <dc:subject/>
  <dc:title>Java Multimedia: Images, Animation, Audio and Video</dc:title>
</cp:coreProperties>
</file>